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2572-03EE-4627-833E-5954F0FF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6CC-A455-4915-8586-CC2054BE3DDD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D850-D78A-426F-86EB-83D8812031DE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3322-1CFB-46F6-A079-4F440C37358D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A195-9D66-43F7-A74F-17E1EDDD3B45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7CC1-7939-4154-B384-2A7344D144B3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6212-1F5B-4B48-AF7F-059358ACE74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0594-737B-479D-81E8-F8D9720B7B54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376B-1820-4013-9C86-F56B6BA5B878}" type="slidenum">
              <a:rPr b="0" lang="en-U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8D7-91C6-4503-A809-D5D356AE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5B6-77FF-482E-A650-29CADF38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540-3182-473E-9B00-E1D7857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FAE-E248-469D-B115-1B5141AA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EC8C-8FA3-4C7F-A291-BFBAD7FD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3836-0871-4790-AF54-A3149223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7A0-B480-433D-B933-74A2B24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262D-F113-402C-A548-181EFE0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CC36-04DE-4571-B1FF-79688A78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CC82-B868-4A27-80B7-804E1DE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5400-5864-4B92-9719-765003B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6F1-CEA7-4622-83AF-A9CE4795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7553-B10F-4BF1-A698-975DAF9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76E-9091-4F7D-B321-F804B30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67A3-1EE9-4199-B5D6-915BD32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B8B7-1239-4E2B-975A-4E09740B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52D-A7D4-460B-AADB-38B6C98F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062-F808-4D3E-9AFB-29B4311E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3BD-E623-40D5-8DBB-1FF5984A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B7D2-C86C-46DA-89A8-8EFFC2C7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F4F-9B50-400F-8984-706825C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48F-0A30-4B99-9BAA-D1860A0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D9-9995-4BD5-8862-06C0CE5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2A3-6433-4AC4-A930-B8579C5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EA9C-3788-47A8-9A4A-7B32B33A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17DF-AF3D-4DE5-825A-48B15D69949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proul.wikispaces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elcome to Mrs. Plattner’s Algebra Class!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ell us one interesting thing about yourself! Be Appropriat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on Tim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Prepare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Be Respectful and Courteou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llow all School Rul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o Food or Drink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Lavatory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tay in Seats at All Time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Missed Work when Absen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0aabf"/>
                </a:solidFill>
                <a:uFillTx/>
                <a:latin typeface="Arial"/>
                <a:hlinkClick r:id="rId2"/>
              </a:rPr>
              <a:t>http://plattner.wikispaces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enda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rkshee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e me or e-mail me!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 5 times a wee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4 point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 late homewor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upplie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3 -ring Bind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otebook Pap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encil/Eraser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alculator -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exas Instruments TI-30XII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Online Textbook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y.hrw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tudy Island/Laptop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ww.studyisland.com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2:16:51Z</dcterms:created>
  <dc:creator>Parkland High School</dc:creator>
  <dc:description/>
  <dc:language>en-US</dc:language>
  <cp:lastModifiedBy>test</cp:lastModifiedBy>
  <dcterms:modified xsi:type="dcterms:W3CDTF">2014-09-03T12:37:33Z</dcterms:modified>
  <cp:revision>5</cp:revision>
  <dc:subject/>
  <dc:title>Welcome to Miss Sproul’s Algebra Class!</dc:title>
</cp:coreProperties>
</file>